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ED58-8E4D-4074-9DB3-8A931381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7C8-737A-436B-B0DB-89D784D4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1591-7110-43B7-907D-0FD3854C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FA10-B497-40EA-9814-6C86BD9D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57D6-7091-4391-B196-CBD1A55E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43C1-1A48-409F-8D00-D2051825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E48E-048F-4E24-BEA9-9D3AA439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2F08-0454-4B1D-8190-A1C26BAF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5E8A-52FE-4F64-BAB0-D80C77D6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0AE3-88F4-4221-B6BD-E08E9869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63F8-0550-4610-9D45-7D58C3AD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B37D-C4E7-4B01-AF7E-6713C77A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5136-2790-4E16-8BB2-396021BDD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alibri"/>
              </a:rPr>
              <a:t>Factors that Affect Climat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" y="1247760"/>
            <a:ext cx="7848720" cy="553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7086600" cy="531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n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523880" y="1492200"/>
            <a:ext cx="5867640" cy="4908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701028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7120" y="380880"/>
            <a:ext cx="6093000" cy="6093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7772400" cy="5173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71600" y="5181480"/>
            <a:ext cx="76212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5791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4:41:55Z</dcterms:created>
  <dc:creator>Customer</dc:creator>
  <dc:description/>
  <dc:language>en-US</dc:language>
  <cp:lastModifiedBy>OCDSB User</cp:lastModifiedBy>
  <dcterms:modified xsi:type="dcterms:W3CDTF">2012-04-17T15:32:45Z</dcterms:modified>
  <cp:revision>12</cp:revision>
  <dc:subject/>
  <dc:title>Slide 1</dc:title>
</cp:coreProperties>
</file>